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6B7-D268-4B19-8015-BB5F25A07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4F0-C324-4750-84E6-8B8C2EDA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586-8FAE-4EE5-BFE9-8397D5AAA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correspondence with parents will be in English and their native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89A-0782-4C00-AC0C-C9161BC24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9D9-491F-467D-9350-E44C9DBF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604-731E-473D-88EE-849E4A209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k or Swim approach isn’t good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1D4-3133-4163-BEA3-2D9EFEB41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E86-36A8-41E2-B952-F41A9B178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articles described a program called the “Language Camp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3E0-CF22-4F10-8FA1-67A842826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A8F-4B92-4732-B8DE-28F376E7F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B629-8E24-4ED6-A553-3AB556A52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C7C8-6A69-48DA-A580-A7DF03CDC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614-2A9F-445E-AA9E-007EED2B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91B-3239-4AC2-AFFF-F7B640EF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33C-59BD-40A1-806F-F89BC3B4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D2F-70F1-4EC4-98EA-3669274E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721-BDBA-4ED1-B504-1BFE9615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DE7-CA3B-4C99-9D96-E1B6B60F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DC4-3C18-4DB7-810F-6D00399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E1A-5BDB-4E94-8B80-76AF2C1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5EA-3E95-49BC-A157-D3B3EF27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56F-10C4-40F8-AE70-21A6903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742-243D-4EEA-B13E-743E86F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478-3720-4121-8D6F-78612EE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6E2-98A3-4554-8DC9-CB1C2BA99227}" type="datetime">
              <a:rPr b="0" lang="en-US" sz="1200" spc="-1" strike="noStrike">
                <a:solidFill>
                  <a:srgbClr val="898989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0AC-20F8-4324-8BB5-647623496534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2560" y="1792440"/>
            <a:ext cx="7785000" cy="199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4e6d"/>
                </a:solidFill>
                <a:latin typeface="Gill Sans MT"/>
              </a:rPr>
              <a:t>Which is a better solution for our non-English speaking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" name="Picture 2" descr="C:\Users\Sue\AppData\Local\Microsoft\Windows\Temporary Internet Files\Content.IE5\NX9PQO64\MCj04404240000[1].wmf"/>
          <p:cNvPicPr/>
          <p:nvPr/>
        </p:nvPicPr>
        <p:blipFill>
          <a:blip r:embed="rId2"/>
          <a:stretch/>
        </p:blipFill>
        <p:spPr>
          <a:xfrm>
            <a:off x="304920" y="304920"/>
            <a:ext cx="1827000" cy="150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Sue\AppData\Local\Microsoft\Windows\Temporary Internet Files\Content.IE5\NX9PQO64\MPj04395080000[1].jpg"/>
          <p:cNvPicPr/>
          <p:nvPr/>
        </p:nvPicPr>
        <p:blipFill>
          <a:blip r:embed="rId3"/>
          <a:stretch/>
        </p:blipFill>
        <p:spPr>
          <a:xfrm>
            <a:off x="6934320" y="4952880"/>
            <a:ext cx="1295280" cy="167328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82E-784A-447D-89E2-B4BB2B3864A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838080" y="60958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usana P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e6d"/>
                </a:solidFill>
                <a:uFillTx/>
                <a:latin typeface="Bookman Old Style"/>
              </a:rPr>
              <a:t>Parental Surve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. strongly agree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2. agree   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. disagree 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4. strongly disag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1. I speak and read in English.                                       1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2. I read to my child.                                                      2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3. I want my child to be taught in his native language.   3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4. I encourage my child to go to the library.                    4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303e"/>
                </a:solidFill>
                <a:latin typeface="Bookman Old Style"/>
              </a:rPr>
              <a:t>5. I buy books as presents.                                             5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23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4BD-C545-4C69-A499-05DD61F1E960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Sample Letter of Consent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ar Parent or Guardia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 name is Susana Pinto and I am a graduate student a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rooklyn College. I am currently working on a project to see if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ildren learn to read better using a students native language 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f they do better when solely taught in English. I would like 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ork with your child since they are currently in the ES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gram at their school. This will be a two month project where I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ll work with your child in a group setting . I promise that th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ll not interfere with any of their other school work. Ple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heck the yes or no box and sign your na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 thank you in advanc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Kind Regards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sana Pi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ACD4-EC25-4CAD-9CA4-8F88218C876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2" descr=""/>
          <p:cNvPicPr/>
          <p:nvPr/>
        </p:nvPicPr>
        <p:blipFill>
          <a:blip r:embed="rId1"/>
          <a:stretch/>
        </p:blipFill>
        <p:spPr>
          <a:xfrm>
            <a:off x="878040" y="371520"/>
            <a:ext cx="7613640" cy="547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Sue\AppData\Local\Microsoft\Windows\Temporary Internet Files\Content.IE5\HZQTZ39Q\MPj04394150000[1].jpg"/>
          <p:cNvPicPr/>
          <p:nvPr/>
        </p:nvPicPr>
        <p:blipFill>
          <a:blip r:embed="rId2"/>
          <a:stretch/>
        </p:blipFill>
        <p:spPr>
          <a:xfrm>
            <a:off x="1981080" y="4376880"/>
            <a:ext cx="4114800" cy="248112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729C-5D18-4941-9089-4DC9E917D2D5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mmersion versus Bilingual Literacy Instruction. Which is a Better Solution?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s is of great interest to me because I came to this country when I was six years old from Portugal and I didn’t know English, so I experienced this dilemma first hand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ith this Action Research Project I intend to see which solution is bet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2E3-855C-47F5-8631-CC0CD47A3BBC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re is a lot of controversy over which method of instruction is better for English Language Learners (ELL) with regards to Literac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hould schools use the immersion programs where a students native language plays little or no role or should they use bilingual literacy education where instruction is given in the native tongu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3C4-7BE6-4179-AB83-6B98559634D2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O. Daniela Silva\Local Settings\Temporary Internet Files\Content.IE5\SAY16ZD8\MPj04422430000[1].jpg"/>
          <p:cNvPicPr/>
          <p:nvPr/>
        </p:nvPicPr>
        <p:blipFill>
          <a:blip r:embed="rId1"/>
          <a:stretch/>
        </p:blipFill>
        <p:spPr>
          <a:xfrm>
            <a:off x="3429000" y="3772080"/>
            <a:ext cx="20574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</a:t>
            </a: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Review of Literature</a:t>
            </a: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          </a:t>
            </a:r>
            <a:r>
              <a:rPr b="1" lang="en-US" sz="1600" spc="-1" strike="noStrike" u="sng">
                <a:solidFill>
                  <a:srgbClr val="083763"/>
                </a:solidFill>
                <a:uFillTx/>
                <a:latin typeface="Bookman Old Style"/>
              </a:rPr>
              <a:t>PROS</a:t>
            </a:r>
            <a:r>
              <a:rPr b="1" lang="en-US" sz="3200" spc="-1" strike="noStrike">
                <a:solidFill>
                  <a:srgbClr val="083763"/>
                </a:solidFill>
                <a:latin typeface="Bookman Old Style"/>
              </a:rPr>
              <a:t>                         </a:t>
            </a: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eachers need to help learners identify skills that can help facilitate their learning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Reye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se Gardner’s multiple intelligence theory to achieve best result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Gardner, 1983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udents must possess both skill and will to read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Wei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rovide learners with new experiences to generate new idea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Reye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o non-English speaking students series texts with pictures is important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Avalos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79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eave politics out of the classroom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Mitchell, 2005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ttention needs to be paid to the professional development of educators – some don’t know how to deal with these students or their parent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Fitzgerald, 2000)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One article stated that researchers found only 17 studies were concerned with educational quality, compared with more than 450 studies examining types of reading program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Hamilton, 2006)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aybe  the focus should be on the quality of the education and not the instruction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Shin, 2008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acist and against basic freedom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Mora, 2007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5F7F-F0AC-4189-8010-9780BE75B5AB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Making Our Own Reading Camp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1920" y="1294920"/>
            <a:ext cx="4343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ncrease the learners’ self-estee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ave interesting and manageable reading materials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reate awareness by showing them strategies they can use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velop good reading habi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ind on-line technology that will help with this literacy dilemma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s one of my articles stated I want to make the “Reading Camp” fun for both groups. We will use computers for visual aids, make our own board games, have drama activities, and many more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(Balakrishnan, Hashim, 2006)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11D5-D291-4F8E-958F-5841925B0371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Documents and Settings\O. Daniela Silva\Local Settings\Temporary Internet Files\Content.IE5\02K1LH0W\MPj04394500000[1].jpg"/>
          <p:cNvPicPr/>
          <p:nvPr/>
        </p:nvPicPr>
        <p:blipFill>
          <a:blip r:embed="rId1"/>
          <a:stretch/>
        </p:blipFill>
        <p:spPr>
          <a:xfrm>
            <a:off x="4648320" y="1911240"/>
            <a:ext cx="40384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 -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mplementing an intensive language learning instructional environment  with English language learners over a two month period will increase their reading skills more so than the group that is being taught in a bi-lingual environment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EB5-7D24-48C7-8948-A7766807598A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83763"/>
                </a:solidFill>
                <a:uFillTx/>
                <a:latin typeface="Bookman Old Style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 proposed intervention is to work with tw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ookman Old Style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grade classrooms in 2 schools (PS X and PS Y). Both are in the Bronx and both have children with the same language issue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y are all Spanish speaking immigrant stud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area that they live in is known to be a low economic are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2303e"/>
                </a:solidFill>
                <a:uFillTx/>
                <a:latin typeface="Bookman Old Style"/>
              </a:rPr>
              <a:t>Instru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rst I will give out consent letters to the principal and parent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se will be in order to introduce myself and get permi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 will use tests,  running records, and surveys to assess the student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9517-E513-4B50-9675-25D5D8D9F381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O. Daniela Silva\Local Settings\Temporary Internet Files\Content.IE5\EFZRGKI3\MPj04422140000[1]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3763"/>
                </a:solidFill>
                <a:uFillTx/>
                <a:latin typeface="Bookman Old Style"/>
              </a:rPr>
              <a:t>Self Assessment Surve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. strongly agree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2. agree   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. disagree   </a:t>
            </a: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4. strongly disagr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stories.                                                    1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aloud.                                                     2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information books.                                  3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go to the library.                                             4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watch TV better than reading.                         5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comics or magazines.                              6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like to read with the help of an adult.                        7. 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My parents read to me.                                                8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I think reading is hard.                                                9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man Old Style"/>
              </a:rPr>
              <a:t>My teacher gives me interesting things to read.          10. 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CDC3-B852-4B34-A624-E950D6A0E2BE}" type="slidenum">
              <a:rPr b="0" lang="en-US" sz="1200" spc="-1" strike="noStrike">
                <a:solidFill>
                  <a:srgbClr val="898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1:00:48Z</dcterms:created>
  <dc:creator>Susana Plass</dc:creator>
  <dc:description/>
  <dc:language>en-US</dc:language>
  <cp:lastModifiedBy>Sue</cp:lastModifiedBy>
  <dcterms:modified xsi:type="dcterms:W3CDTF">2009-12-17T17:00:57Z</dcterms:modified>
  <cp:revision>21</cp:revision>
  <dc:subject/>
  <dc:title>IMMERSION VERSUS BILINGUAL LITERACY INSTRUCTION</dc:title>
</cp:coreProperties>
</file>